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177-FB25-4783-867D-ACC5E099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ACD-7C73-47BA-AB6D-1E1B6581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4F670-6A6C-4657-98F6-20EB41D8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D41DB-A0E9-4A8D-BFBE-5636CB35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8B32D-DAAA-4B5B-BE92-37375E7D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53655-FD2B-45B5-84AF-0D9011BE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29522-009F-4185-A80E-53473672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14B84-B8B7-47DC-981C-F6C851B4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C0E7D-81C7-4A7E-BD62-ED2B9A28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D521A-3F9F-4784-A246-5861DDD6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820FC-979B-474C-82B2-1A51B207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D31FB-9B78-4C42-81A2-959BB82F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E99-9414-4048-AB12-E16C8644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E451A-7B8F-4B72-A021-91585808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10239-A6D5-48D4-88FD-D81897CB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4BFE5-1310-427E-A342-5169477C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EF7D7-B10F-46C8-99A5-97AAEBA5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06761-F973-48E0-A65F-726EEC9D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648CC-CA70-4754-AE41-B7D62141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EB92A-C07E-4B3E-886F-4AC95F74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AA66D-7955-4FDF-9CCE-2D81832C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5326E-E790-4857-989E-E87654C8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4D83B-8648-4FD0-AD36-78AF5F5B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980-3350-4C71-A0E6-B2C8E33A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E9558-1D04-4969-BC63-803FA8C1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BEDE6-BE82-4919-9A5F-623763CE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E26A0-698D-485B-8E56-4B6F9652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7E4EA-9758-48CC-BFA2-3CFEE740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1450C-A99D-4B2F-AEDC-F1CF21B8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29E23-7CFF-468C-BA67-0078ABF8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9713E-4FBB-44E0-8A9C-6562ABD0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FFF6B-9BDA-47C8-9A88-6BD8911E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CEA36-A091-4DE0-B4A2-DDD16C19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C23D0-46E7-4E1E-A793-FDC02350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6333-F01F-42D9-B902-6D3BA42A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43388-8246-4F76-BCD0-45413242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F0F8A-1D50-4800-A067-3923D487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83F9C-FE20-4A68-B161-E2300D6D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55B17-148B-43A3-89A4-2803FEC3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17F3A-811B-40FE-9C3C-0383BF72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AF95F-209C-4D41-928A-95D4CD5F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749F3-4161-4119-ABDB-E1A635C0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3448F-0476-484E-AAB1-7339B1CC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6266F-E271-4517-9210-F6071332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C005C-C5DB-44B7-A4D9-84026CEC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E9B6-D1D6-444D-BED5-14F3B557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488BD-B084-4875-9FBF-EB847B45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E2AE8-CA46-45C6-8DF2-1FA4C48B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7399E-2697-4D89-BB7F-8C51B6CB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8C452-53DE-4718-8F54-3101940D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2C17A-41AD-407E-B8C9-7A8501FF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F5B6F-4219-4FEA-A0EA-580CB13A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A1AE7-ECBA-4FB2-85FB-A73416ED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63036-5079-4C12-9A39-BEA7B717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8C62B-D016-4371-BAEA-18AF4BAE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CF4802-03F4-404E-8E54-2FA3EBB9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BA07-771C-457B-BF1C-E7D98228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3C167-E398-4537-85D4-4DA01137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F993F-22EF-4003-9747-8B90A1F2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540C36-0331-41D9-91C0-9B40DC6B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BEEDBE-34EE-4FCA-B1CC-C26A8383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19F4E-EA9C-4BA3-87D5-A0F219CD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890A56-B850-45C9-AB9A-CE01C741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D9040-13AB-4617-8884-03B9289D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0655-CD24-4C85-945E-C763A557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D57B-6541-4FB6-A724-C9EDF9F9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DDEC-767D-44B7-A088-10E70672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1E20-8671-48C1-A8AB-D60422FF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296-2D61-4DBC-94D4-EF60A0C0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337F-F594-4DD2-868A-A720788B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A80D-95A4-49EC-A124-9395BB2E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2C91-056F-4965-89F6-1419E5E6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27DD-7D8A-4666-A2CB-99D2DB12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3F8D-58DF-4F78-BF60-4C7CE01F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2BED9-67F8-41EA-B23B-F7F9B11D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A6492-D20F-4350-8E3E-3ECD8AEA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FF4AB-4DAD-4685-B6DD-6CD72867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18497-4771-4A0C-BD6B-F9742937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3B761-B223-431D-8410-2DF2175C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D8F4-F25A-44E9-8A36-834FCFA2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6A618-A529-4CCF-936D-1526D63C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E43F9-D5F9-4009-8E43-A134A797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433B1-D415-4382-A5AD-981FE60D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70372-05AD-4693-9148-3413B8CB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6540E-0F39-421D-B2EF-83FEBD99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12B1F-EB56-4DBD-96DA-D25A731B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81EF4-8CCC-4F76-899F-436EBD59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604E8-8729-47C4-9F71-B73B6D04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A4E28-AD70-491D-B35F-AFDFE1BD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7DB0E-7D4C-4191-9363-7C04001F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2863-F0FF-4B18-B47E-05B6F6CC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369DE-FABC-4309-A134-4C69133A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3501D-EE37-4AE0-875F-74A2A48F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99055-C8C4-4064-AF38-608EDE64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54750-1078-4355-9764-60FE899B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7E5AA-EDED-4B89-961D-4F76C154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2644A-EE8F-4994-888D-E50961D3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8126B-4F0E-4F3B-B092-D72CBDFB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2C58A-261B-43FC-9743-8EE5E392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B4299-25DE-4448-92E7-7556C874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D6037-5506-4CCF-BA46-F3DA9274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1BE0-FD76-43E0-AC6C-01252B59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8EE8F-3331-48BD-BA67-65AC8725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7DE69-8F15-42D6-BA2F-8257A297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81649-2533-42D9-9DC9-88F7B731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D8A79-CFC3-403F-8EBA-3DB8F8DB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ED927-33FE-4842-96B0-78296C08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14E90-0CB0-4012-ABB7-0E1E3166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E24D5-78E8-4578-9D78-39C5F0BF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F8DC2-5775-432B-BD19-D498B540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524C3-E84B-4D34-AB50-42A9943A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1BBE8-256A-405D-820C-E3037605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3439-46B7-4385-AF99-79E06254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B9E53-9F61-4C79-A890-B1A0020D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21855-C7D2-4873-B710-ADD64FED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D52BD-DA8E-4988-8790-DE23E3C1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A60F9-477D-4AA5-82B4-F57A76B7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6AB71-E24E-4247-A59C-101A4F95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B75A1-2A0D-4291-84AC-3FAA3978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6BA76-CDAA-4B6F-8978-0C496224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C86CD-7052-4A27-8B63-0E4B9587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EF1CE-062A-4997-A34B-52B9E9BD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C246B-DB50-415F-A28A-EA9738AF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7A56-07F2-4578-A78E-782190D5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03CDE-3824-4C9A-9E33-49DADA25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3E6D8-E85E-44AC-8CEF-DFB3D701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535CE-A22C-4752-BDCC-DD1C6BF9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E8647-8002-4DB5-A2F6-04C45D7A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2C938-51EC-4A32-95B3-95470252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7B6DB-AD1F-42D2-A7B6-5FDCF2D4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A550C-6E2F-4C87-9D88-DA146673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77193-276B-4E41-B60C-B01AF680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84C1C-3A2C-4D9F-AC9F-245C23C4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7A7FE-6385-4A32-B9BB-CE528E3F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87B-AEBB-47AE-81E0-B44C53FA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82CD5-FFCA-45F4-8527-EBC35B11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00D12-DB0E-4B65-860D-0BBB1649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D10E4-BE2A-4E57-A08C-4DE0D601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DC650-1DA9-4D15-9907-4AD0DF90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D615A-4574-4CE3-85CC-02FE9C27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691EA-83F1-4D35-BB42-092A024E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D29C2-7A82-4054-8AB3-23FE581B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8FED1-3BE3-4F1F-AE8F-AF2BA78F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45D61-C774-460E-8A22-59425EE6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96726-784C-4A17-B94D-D541B5F6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0163-BAF6-4CCF-8AEA-0571C150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8B819-5370-4B43-8E93-CE6865F1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F23F0-9533-4687-B4D5-85653217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4A98D-BA91-44B2-82C1-D2B91FF8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A3F9E-3A0B-4AAA-B67B-164CA7F1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22382-6521-4D1D-AC77-A99E78CC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B0294-0E90-4FDE-ABAB-03CE0258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6E525-438A-4C1C-AF01-A7E8F3C8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B1F77-D916-4D65-AB80-0D751D62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C9616-777F-46F3-B814-B679FB5E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22D8F-EC14-4BDF-AD8D-B9AD7C73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A799-1C87-4F67-BF30-A5C67D52E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A9A8-A76C-4B8A-8599-D12E76209C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3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A0C3-C9F2-4D10-A61F-BE395944304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5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269C-5F0B-4C8F-A876-E55D2775EA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2E45-552D-4758-9536-0C58F479BA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BFF0-401F-4D25-8F81-83A43EB6DE1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29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93DA-E881-4288-8256-4436A0F3C8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DDC7-2C31-47D4-96BB-4201A0E14C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1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1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2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E403-8A73-4667-9D6E-F1AC7F3BFCD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A37D-84B0-49F7-9683-1216B94AB9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E6B1-72F0-4C90-A4C3-9C6CA4ED43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5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6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367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37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5CD5-AFC3-4DE0-B852-A389D8B4D12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20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A79B-9BD3-4E08-BF48-F51A9D0546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" Target="slide6.xml"/><Relationship Id="rId14" Type="http://schemas.openxmlformats.org/officeDocument/2006/relationships/slide" Target="slide7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6.xml"/><Relationship Id="rId22" Type="http://schemas.openxmlformats.org/officeDocument/2006/relationships/slide" Target="slide27.xml"/><Relationship Id="rId23" Type="http://schemas.openxmlformats.org/officeDocument/2006/relationships/slide" Target="slide28.xml"/><Relationship Id="rId24" Type="http://schemas.openxmlformats.org/officeDocument/2006/relationships/slide" Target="slide29.xml"/><Relationship Id="rId25" Type="http://schemas.openxmlformats.org/officeDocument/2006/relationships/slide" Target="slide30.xml"/><Relationship Id="rId26" Type="http://schemas.openxmlformats.org/officeDocument/2006/relationships/slide" Target="slide31.xml"/><Relationship Id="rId27" Type="http://schemas.openxmlformats.org/officeDocument/2006/relationships/slide" Target="slide38.xml"/><Relationship Id="rId28" Type="http://schemas.openxmlformats.org/officeDocument/2006/relationships/slide" Target="slide39.xml"/><Relationship Id="rId29" Type="http://schemas.openxmlformats.org/officeDocument/2006/relationships/slide" Target="slide40.xml"/><Relationship Id="rId30" Type="http://schemas.openxmlformats.org/officeDocument/2006/relationships/slide" Target="slide41.xml"/><Relationship Id="rId31" Type="http://schemas.openxmlformats.org/officeDocument/2006/relationships/slide" Target="slide42.xml"/><Relationship Id="rId32" Type="http://schemas.openxmlformats.org/officeDocument/2006/relationships/slide" Target="slide43.xml"/><Relationship Id="rId33" Type="http://schemas.openxmlformats.org/officeDocument/2006/relationships/slide" Target="slide50.xml"/><Relationship Id="rId34" Type="http://schemas.openxmlformats.org/officeDocument/2006/relationships/slide" Target="slide51.xml"/><Relationship Id="rId35" Type="http://schemas.openxmlformats.org/officeDocument/2006/relationships/slide" Target="slide52.xml"/><Relationship Id="rId36" Type="http://schemas.openxmlformats.org/officeDocument/2006/relationships/slide" Target="slide53.xml"/><Relationship Id="rId37" Type="http://schemas.openxmlformats.org/officeDocument/2006/relationships/slide" Target="slide54.xml"/><Relationship Id="rId38" Type="http://schemas.openxmlformats.org/officeDocument/2006/relationships/slide" Target="slide55.xml"/><Relationship Id="rId39" Type="http://schemas.openxmlformats.org/officeDocument/2006/relationships/slide" Target="slide62.xml"/><Relationship Id="rId40" Type="http://schemas.openxmlformats.org/officeDocument/2006/relationships/slide" Target="slide63.xml"/><Relationship Id="rId41" Type="http://schemas.openxmlformats.org/officeDocument/2006/relationships/slide" Target="slide64.xml"/><Relationship Id="rId42" Type="http://schemas.openxmlformats.org/officeDocument/2006/relationships/slide" Target="slide65.xml"/><Relationship Id="rId43" Type="http://schemas.openxmlformats.org/officeDocument/2006/relationships/slide" Target="slide66.xml"/><Relationship Id="rId44" Type="http://schemas.openxmlformats.org/officeDocument/2006/relationships/slide" Target="slide67.xml"/><Relationship Id="rId45" Type="http://schemas.openxmlformats.org/officeDocument/2006/relationships/slide" Target="slide74.xml"/><Relationship Id="rId46" Type="http://schemas.openxmlformats.org/officeDocument/2006/relationships/slide" Target="slide74.xml"/><Relationship Id="rId4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3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32.xml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33.xml"/><Relationship Id="rId5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37.xml"/><Relationship Id="rId5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47.xml"/><Relationship Id="rId4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48.xml"/><Relationship Id="rId4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49.xml"/><Relationship Id="rId4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56.xml"/><Relationship Id="rId4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57.xml"/><Relationship Id="rId5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60.xml"/><Relationship Id="rId5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61.xml"/><Relationship Id="rId5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8.xml"/><Relationship Id="rId3" Type="http://schemas.openxmlformats.org/officeDocument/2006/relationships/slideLayout" Target="../slideLayouts/slideLayout7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69.xml"/><Relationship Id="rId4" Type="http://schemas.openxmlformats.org/officeDocument/2006/relationships/slideLayout" Target="../slideLayouts/slideLayout7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70.xml"/><Relationship Id="rId4" Type="http://schemas.openxmlformats.org/officeDocument/2006/relationships/slideLayout" Target="../slideLayouts/slideLayout7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71.xml"/><Relationship Id="rId4" Type="http://schemas.openxmlformats.org/officeDocument/2006/relationships/slideLayout" Target="../slideLayouts/slideLayout7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7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3">
            <a:hlinkClick r:id="rId2" action="ppaction://hlinksldjump"/>
          </p:cNvPr>
          <p:cNvSpPr/>
          <p:nvPr/>
        </p:nvSpPr>
        <p:spPr>
          <a:xfrm>
            <a:off x="838080" y="1981080"/>
            <a:ext cx="838440" cy="609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4">
            <a:hlinkClick r:id="rId3" action="ppaction://hlinksldjump"/>
          </p:cNvPr>
          <p:cNvSpPr/>
          <p:nvPr/>
        </p:nvSpPr>
        <p:spPr>
          <a:xfrm>
            <a:off x="838080" y="2743200"/>
            <a:ext cx="838440" cy="6094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5">
            <a:hlinkClick r:id="rId4" action="ppaction://hlinksldjump"/>
          </p:cNvPr>
          <p:cNvSpPr/>
          <p:nvPr/>
        </p:nvSpPr>
        <p:spPr>
          <a:xfrm>
            <a:off x="838080" y="3505320"/>
            <a:ext cx="838440" cy="6094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6">
            <a:hlinkClick r:id="rId5" action="ppaction://hlinksldjump"/>
          </p:cNvPr>
          <p:cNvSpPr/>
          <p:nvPr/>
        </p:nvSpPr>
        <p:spPr>
          <a:xfrm>
            <a:off x="838080" y="4267080"/>
            <a:ext cx="838440" cy="609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7">
            <a:hlinkClick r:id="rId6" action="ppaction://hlinksldjump"/>
          </p:cNvPr>
          <p:cNvSpPr/>
          <p:nvPr/>
        </p:nvSpPr>
        <p:spPr>
          <a:xfrm>
            <a:off x="2153880" y="137160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8">
            <a:hlinkClick r:id="rId7" action="ppaction://hlinksldjump"/>
          </p:cNvPr>
          <p:cNvSpPr/>
          <p:nvPr/>
        </p:nvSpPr>
        <p:spPr>
          <a:xfrm>
            <a:off x="3456360" y="152388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odic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9">
            <a:hlinkClick r:id="rId8" action="ppaction://hlinksldjump"/>
          </p:cNvPr>
          <p:cNvSpPr/>
          <p:nvPr/>
        </p:nvSpPr>
        <p:spPr>
          <a:xfrm>
            <a:off x="4728960" y="1371600"/>
            <a:ext cx="88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ightfu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0">
            <a:hlinkClick r:id="rId9" action="ppaction://hlinksldjump"/>
          </p:cNvPr>
          <p:cNvSpPr/>
          <p:nvPr/>
        </p:nvSpPr>
        <p:spPr>
          <a:xfrm>
            <a:off x="6047280" y="1371600"/>
            <a:ext cx="81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b Equ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amp; Safe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11">
            <a:hlinkClick r:id="rId10" action="ppaction://hlinksldjump"/>
          </p:cNvPr>
          <p:cNvSpPr/>
          <p:nvPr/>
        </p:nvSpPr>
        <p:spPr>
          <a:xfrm>
            <a:off x="7319160" y="137160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ldc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8200" y="240840"/>
            <a:ext cx="8037360" cy="10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Alchemy: Sections I &amp; I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4" name="Text Box 13">
            <a:hlinkClick r:id="rId12" action="ppaction://hlinksldjump"/>
          </p:cNvPr>
          <p:cNvSpPr/>
          <p:nvPr/>
        </p:nvSpPr>
        <p:spPr>
          <a:xfrm>
            <a:off x="840960" y="1371600"/>
            <a:ext cx="57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c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14">
            <a:hlinkClick r:id="rId13" action="ppaction://hlinksldjump"/>
          </p:cNvPr>
          <p:cNvSpPr/>
          <p:nvPr/>
        </p:nvSpPr>
        <p:spPr>
          <a:xfrm>
            <a:off x="838080" y="5029200"/>
            <a:ext cx="838440" cy="6094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15">
            <a:hlinkClick r:id="rId14" action="ppaction://hlinksldjump"/>
          </p:cNvPr>
          <p:cNvSpPr/>
          <p:nvPr/>
        </p:nvSpPr>
        <p:spPr>
          <a:xfrm>
            <a:off x="838080" y="5791320"/>
            <a:ext cx="838440" cy="6094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16">
            <a:hlinkClick r:id="rId15" action="ppaction://hlinksldjump"/>
          </p:cNvPr>
          <p:cNvSpPr/>
          <p:nvPr/>
        </p:nvSpPr>
        <p:spPr>
          <a:xfrm>
            <a:off x="2133720" y="1981080"/>
            <a:ext cx="838080" cy="609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17">
            <a:hlinkClick r:id="rId16" action="ppaction://hlinksldjump"/>
          </p:cNvPr>
          <p:cNvSpPr/>
          <p:nvPr/>
        </p:nvSpPr>
        <p:spPr>
          <a:xfrm>
            <a:off x="2133720" y="2743200"/>
            <a:ext cx="83808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18">
            <a:hlinkClick r:id="rId17" action="ppaction://hlinksldjump"/>
          </p:cNvPr>
          <p:cNvSpPr/>
          <p:nvPr/>
        </p:nvSpPr>
        <p:spPr>
          <a:xfrm>
            <a:off x="2133720" y="3505320"/>
            <a:ext cx="83808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19">
            <a:hlinkClick r:id="rId18" action="ppaction://hlinksldjump"/>
          </p:cNvPr>
          <p:cNvSpPr/>
          <p:nvPr/>
        </p:nvSpPr>
        <p:spPr>
          <a:xfrm>
            <a:off x="2133720" y="4267080"/>
            <a:ext cx="838080" cy="609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20">
            <a:hlinkClick r:id="rId19" action="ppaction://hlinksldjump"/>
          </p:cNvPr>
          <p:cNvSpPr/>
          <p:nvPr/>
        </p:nvSpPr>
        <p:spPr>
          <a:xfrm>
            <a:off x="2133720" y="5029200"/>
            <a:ext cx="83808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21">
            <a:hlinkClick r:id="rId20" action="ppaction://hlinksldjump"/>
          </p:cNvPr>
          <p:cNvSpPr/>
          <p:nvPr/>
        </p:nvSpPr>
        <p:spPr>
          <a:xfrm>
            <a:off x="2133720" y="5791320"/>
            <a:ext cx="83808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22">
            <a:hlinkClick r:id="rId21" action="ppaction://hlinksldjump"/>
          </p:cNvPr>
          <p:cNvSpPr/>
          <p:nvPr/>
        </p:nvSpPr>
        <p:spPr>
          <a:xfrm>
            <a:off x="3429000" y="1981080"/>
            <a:ext cx="83808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23">
            <a:hlinkClick r:id="rId22" action="ppaction://hlinksldjump"/>
          </p:cNvPr>
          <p:cNvSpPr/>
          <p:nvPr/>
        </p:nvSpPr>
        <p:spPr>
          <a:xfrm>
            <a:off x="3429000" y="2743200"/>
            <a:ext cx="83808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24">
            <a:hlinkClick r:id="rId23" action="ppaction://hlinksldjump"/>
          </p:cNvPr>
          <p:cNvSpPr/>
          <p:nvPr/>
        </p:nvSpPr>
        <p:spPr>
          <a:xfrm>
            <a:off x="3429000" y="3505320"/>
            <a:ext cx="83808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25">
            <a:hlinkClick r:id="rId24" action="ppaction://hlinksldjump"/>
          </p:cNvPr>
          <p:cNvSpPr/>
          <p:nvPr/>
        </p:nvSpPr>
        <p:spPr>
          <a:xfrm>
            <a:off x="3429000" y="4267080"/>
            <a:ext cx="83808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Rectangle 26">
            <a:hlinkClick r:id="rId25" action="ppaction://hlinksldjump"/>
          </p:cNvPr>
          <p:cNvSpPr/>
          <p:nvPr/>
        </p:nvSpPr>
        <p:spPr>
          <a:xfrm>
            <a:off x="3429000" y="5029200"/>
            <a:ext cx="83808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27">
            <a:hlinkClick r:id="rId26" action="ppaction://hlinksldjump"/>
          </p:cNvPr>
          <p:cNvSpPr/>
          <p:nvPr/>
        </p:nvSpPr>
        <p:spPr>
          <a:xfrm>
            <a:off x="3429000" y="5791320"/>
            <a:ext cx="83808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28">
            <a:hlinkClick r:id="rId27" action="ppaction://hlinksldjump"/>
          </p:cNvPr>
          <p:cNvSpPr/>
          <p:nvPr/>
        </p:nvSpPr>
        <p:spPr>
          <a:xfrm>
            <a:off x="4724280" y="1981080"/>
            <a:ext cx="83844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29">
            <a:hlinkClick r:id="rId28" action="ppaction://hlinksldjump"/>
          </p:cNvPr>
          <p:cNvSpPr/>
          <p:nvPr/>
        </p:nvSpPr>
        <p:spPr>
          <a:xfrm>
            <a:off x="4724280" y="2743200"/>
            <a:ext cx="8384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30">
            <a:hlinkClick r:id="rId29" action="ppaction://hlinksldjump"/>
          </p:cNvPr>
          <p:cNvSpPr/>
          <p:nvPr/>
        </p:nvSpPr>
        <p:spPr>
          <a:xfrm>
            <a:off x="4724280" y="3505320"/>
            <a:ext cx="8384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31">
            <a:hlinkClick r:id="rId30" action="ppaction://hlinksldjump"/>
          </p:cNvPr>
          <p:cNvSpPr/>
          <p:nvPr/>
        </p:nvSpPr>
        <p:spPr>
          <a:xfrm>
            <a:off x="4724280" y="4267080"/>
            <a:ext cx="83844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32">
            <a:hlinkClick r:id="rId31" action="ppaction://hlinksldjump"/>
          </p:cNvPr>
          <p:cNvSpPr/>
          <p:nvPr/>
        </p:nvSpPr>
        <p:spPr>
          <a:xfrm>
            <a:off x="4724280" y="5029200"/>
            <a:ext cx="8384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33">
            <a:hlinkClick r:id="rId32" action="ppaction://hlinksldjump"/>
          </p:cNvPr>
          <p:cNvSpPr/>
          <p:nvPr/>
        </p:nvSpPr>
        <p:spPr>
          <a:xfrm>
            <a:off x="4724280" y="5791320"/>
            <a:ext cx="8384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34">
            <a:hlinkClick r:id="rId33" action="ppaction://hlinksldjump"/>
          </p:cNvPr>
          <p:cNvSpPr/>
          <p:nvPr/>
        </p:nvSpPr>
        <p:spPr>
          <a:xfrm>
            <a:off x="6019920" y="1981080"/>
            <a:ext cx="838080" cy="60984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35">
            <a:hlinkClick r:id="rId34" action="ppaction://hlinksldjump"/>
          </p:cNvPr>
          <p:cNvSpPr/>
          <p:nvPr/>
        </p:nvSpPr>
        <p:spPr>
          <a:xfrm>
            <a:off x="6019920" y="2743200"/>
            <a:ext cx="838080" cy="60948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36">
            <a:hlinkClick r:id="rId35" action="ppaction://hlinksldjump"/>
          </p:cNvPr>
          <p:cNvSpPr/>
          <p:nvPr/>
        </p:nvSpPr>
        <p:spPr>
          <a:xfrm>
            <a:off x="6019920" y="3505320"/>
            <a:ext cx="838080" cy="60948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37">
            <a:hlinkClick r:id="rId36" action="ppaction://hlinksldjump"/>
          </p:cNvPr>
          <p:cNvSpPr/>
          <p:nvPr/>
        </p:nvSpPr>
        <p:spPr>
          <a:xfrm>
            <a:off x="6019920" y="4267080"/>
            <a:ext cx="838080" cy="60984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38">
            <a:hlinkClick r:id="rId37" action="ppaction://hlinksldjump"/>
          </p:cNvPr>
          <p:cNvSpPr/>
          <p:nvPr/>
        </p:nvSpPr>
        <p:spPr>
          <a:xfrm>
            <a:off x="6019920" y="5029200"/>
            <a:ext cx="838080" cy="60948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39">
            <a:hlinkClick r:id="rId38" action="ppaction://hlinksldjump"/>
          </p:cNvPr>
          <p:cNvSpPr/>
          <p:nvPr/>
        </p:nvSpPr>
        <p:spPr>
          <a:xfrm>
            <a:off x="6019920" y="5791320"/>
            <a:ext cx="838080" cy="60948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40">
            <a:hlinkClick r:id="rId39" action="ppaction://hlinksldjump"/>
          </p:cNvPr>
          <p:cNvSpPr/>
          <p:nvPr/>
        </p:nvSpPr>
        <p:spPr>
          <a:xfrm>
            <a:off x="7315200" y="1981080"/>
            <a:ext cx="838080" cy="6098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41">
            <a:hlinkClick r:id="rId40" action="ppaction://hlinksldjump"/>
          </p:cNvPr>
          <p:cNvSpPr/>
          <p:nvPr/>
        </p:nvSpPr>
        <p:spPr>
          <a:xfrm>
            <a:off x="7315200" y="2743200"/>
            <a:ext cx="8380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42">
            <a:hlinkClick r:id="rId41" action="ppaction://hlinksldjump"/>
          </p:cNvPr>
          <p:cNvSpPr/>
          <p:nvPr/>
        </p:nvSpPr>
        <p:spPr>
          <a:xfrm>
            <a:off x="7315200" y="3505320"/>
            <a:ext cx="8380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43">
            <a:hlinkClick r:id="rId42" action="ppaction://hlinksldjump"/>
          </p:cNvPr>
          <p:cNvSpPr/>
          <p:nvPr/>
        </p:nvSpPr>
        <p:spPr>
          <a:xfrm>
            <a:off x="7315200" y="4267080"/>
            <a:ext cx="838080" cy="6098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44">
            <a:hlinkClick r:id="rId43" action="ppaction://hlinksldjump"/>
          </p:cNvPr>
          <p:cNvSpPr/>
          <p:nvPr/>
        </p:nvSpPr>
        <p:spPr>
          <a:xfrm>
            <a:off x="7315200" y="5029200"/>
            <a:ext cx="8380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45">
            <a:hlinkClick r:id="rId44" action="ppaction://hlinksldjump"/>
          </p:cNvPr>
          <p:cNvSpPr/>
          <p:nvPr/>
        </p:nvSpPr>
        <p:spPr>
          <a:xfrm>
            <a:off x="7315200" y="5791320"/>
            <a:ext cx="8380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46">
            <a:hlinkClick r:id="rId45" action="ppaction://hlinksldjump"/>
          </p:cNvPr>
          <p:cNvSpPr/>
          <p:nvPr/>
        </p:nvSpPr>
        <p:spPr>
          <a:xfrm flipH="1">
            <a:off x="1066680" y="64771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47">
            <a:hlinkClick r:id="rId46" action="ppaction://hlinksldjump"/>
          </p:cNvPr>
          <p:cNvSpPr/>
          <p:nvPr/>
        </p:nvSpPr>
        <p:spPr>
          <a:xfrm>
            <a:off x="1221840" y="652140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3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2286000" y="3200400"/>
            <a:ext cx="4952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a compound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atomic #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4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5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1600200" y="2743200"/>
            <a:ext cx="510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reactivity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6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2057400" y="2743200"/>
            <a:ext cx="3657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an intensive property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Density- 1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4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 Box 6"/>
          <p:cNvSpPr/>
          <p:nvPr/>
        </p:nvSpPr>
        <p:spPr>
          <a:xfrm>
            <a:off x="1143000" y="1981080"/>
            <a:ext cx="6934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Definition of densit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Density- 2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8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1676520" y="2209680"/>
            <a:ext cx="624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he formula for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Density- 3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2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6"/>
          <p:cNvSpPr/>
          <p:nvPr/>
        </p:nvSpPr>
        <p:spPr>
          <a:xfrm>
            <a:off x="1295280" y="1981080"/>
            <a:ext cx="685800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Density of gold (Au) ring is 19.3 g/mL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Density of a gold (Au) necklace is: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Density- 4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6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5"/>
          <p:cNvSpPr/>
          <p:nvPr/>
        </p:nvSpPr>
        <p:spPr>
          <a:xfrm>
            <a:off x="609480" y="2286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6"/>
          <p:cNvSpPr/>
          <p:nvPr/>
        </p:nvSpPr>
        <p:spPr>
          <a:xfrm>
            <a:off x="1066680" y="1676520"/>
            <a:ext cx="708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Item with a larger density: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9" name="Picture 7" descr=""/>
          <p:cNvPicPr/>
          <p:nvPr/>
        </p:nvPicPr>
        <p:blipFill>
          <a:blip r:embed="rId4"/>
          <a:stretch/>
        </p:blipFill>
        <p:spPr>
          <a:xfrm>
            <a:off x="2514600" y="2438280"/>
            <a:ext cx="3639960" cy="3353040"/>
          </a:xfrm>
          <a:prstGeom prst="rect">
            <a:avLst/>
          </a:prstGeom>
          <a:ln w="0">
            <a:noFill/>
          </a:ln>
        </p:spPr>
      </p:pic>
      <p:sp>
        <p:nvSpPr>
          <p:cNvPr id="760" name="TextBox 7"/>
          <p:cNvSpPr/>
          <p:nvPr/>
        </p:nvSpPr>
        <p:spPr>
          <a:xfrm>
            <a:off x="2514240" y="4572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ock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Box 8"/>
          <p:cNvSpPr/>
          <p:nvPr/>
        </p:nvSpPr>
        <p:spPr>
          <a:xfrm>
            <a:off x="4654080" y="46483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ock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Density- 5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1752480" y="2286000"/>
            <a:ext cx="5715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Value for the density of liquid water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Density- 6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 Box 5"/>
          <p:cNvSpPr/>
          <p:nvPr/>
        </p:nvSpPr>
        <p:spPr>
          <a:xfrm>
            <a:off x="1447920" y="2057400"/>
            <a:ext cx="63244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ill an object with a higher density displace more water than an object with a lower density? Explain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1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5"/>
          <p:cNvSpPr/>
          <p:nvPr/>
        </p:nvSpPr>
        <p:spPr>
          <a:xfrm>
            <a:off x="92880" y="3780000"/>
            <a:ext cx="3679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914400" y="251460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ble with elements organized in order of increasing atomic number and grouped so that elements with similar properties are in vertical columns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Density- 1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"/>
          <p:cNvSpPr/>
          <p:nvPr/>
        </p:nvSpPr>
        <p:spPr>
          <a:xfrm>
            <a:off x="1219320" y="1905120"/>
            <a:ext cx="6095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mass per unit volume (amount of matter in a given space)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ensity 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2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5"/>
          <p:cNvSpPr/>
          <p:nvPr/>
        </p:nvSpPr>
        <p:spPr>
          <a:xfrm>
            <a:off x="1295280" y="2514600"/>
            <a:ext cx="5410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What is d = m/V? 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ensity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- 3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 Box 5"/>
          <p:cNvSpPr/>
          <p:nvPr/>
        </p:nvSpPr>
        <p:spPr>
          <a:xfrm>
            <a:off x="1828800" y="236232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19.3 g/mL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Density- 4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4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1828800" y="251460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Block A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">
            <a:hlinkClick r:id="rId1" action="ppaction://hlinksldjump"/>
          </p:cNvPr>
          <p:cNvSpPr/>
          <p:nvPr/>
        </p:nvSpPr>
        <p:spPr>
          <a:xfrm>
            <a:off x="0" y="2286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Density- 5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8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1219320" y="2743200"/>
            <a:ext cx="723888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What is 1.0 g/mL or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1.0 g/cm</a:t>
            </a:r>
            <a:r>
              <a:rPr b="0" lang="en-US" sz="55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Density- 6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2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Text Box 5"/>
          <p:cNvSpPr/>
          <p:nvPr/>
        </p:nvSpPr>
        <p:spPr>
          <a:xfrm>
            <a:off x="1371600" y="1600200"/>
            <a:ext cx="70866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not necessaril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rger object (volume) will displace more water than a smaller object, regardless of the dens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 - 1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6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6"/>
          <p:cNvSpPr/>
          <p:nvPr/>
        </p:nvSpPr>
        <p:spPr>
          <a:xfrm>
            <a:off x="2133720" y="1905120"/>
            <a:ext cx="685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Father of the periodic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abl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 - 2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0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6"/>
          <p:cNvSpPr/>
          <p:nvPr/>
        </p:nvSpPr>
        <p:spPr>
          <a:xfrm>
            <a:off x="1752480" y="1523880"/>
            <a:ext cx="70106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 Box 7"/>
          <p:cNvSpPr/>
          <p:nvPr/>
        </p:nvSpPr>
        <p:spPr>
          <a:xfrm>
            <a:off x="2819520" y="1523880"/>
            <a:ext cx="5273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Number of Periods: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 - 3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5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 Box 6"/>
          <p:cNvSpPr/>
          <p:nvPr/>
        </p:nvSpPr>
        <p:spPr>
          <a:xfrm>
            <a:off x="2133720" y="1676520"/>
            <a:ext cx="6781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Elements 57 to 70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 - 4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9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 Box 6"/>
          <p:cNvSpPr/>
          <p:nvPr/>
        </p:nvSpPr>
        <p:spPr>
          <a:xfrm>
            <a:off x="2438280" y="2133720"/>
            <a:ext cx="670572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Location of transition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metals/element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2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1219320" y="22860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ter cannot be lost or gained in a chemical reaction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 - 5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3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5"/>
          <p:cNvSpPr/>
          <p:nvPr/>
        </p:nvSpPr>
        <p:spPr>
          <a:xfrm>
            <a:off x="1447920" y="2286000"/>
            <a:ext cx="7696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Group 2 elements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 - 6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7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Text Box 6"/>
          <p:cNvSpPr/>
          <p:nvPr/>
        </p:nvSpPr>
        <p:spPr>
          <a:xfrm>
            <a:off x="2362320" y="1523880"/>
            <a:ext cx="586728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Location of main-group element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 - 1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1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Text Box 5"/>
          <p:cNvSpPr/>
          <p:nvPr/>
        </p:nvSpPr>
        <p:spPr>
          <a:xfrm>
            <a:off x="2666880" y="2133720"/>
            <a:ext cx="5791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o is Mendeleev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 - 2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5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Text Box 5"/>
          <p:cNvSpPr/>
          <p:nvPr/>
        </p:nvSpPr>
        <p:spPr>
          <a:xfrm>
            <a:off x="1752480" y="2286000"/>
            <a:ext cx="7010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are seven periods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 - 3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9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Text Box 5"/>
          <p:cNvSpPr/>
          <p:nvPr/>
        </p:nvSpPr>
        <p:spPr>
          <a:xfrm>
            <a:off x="762120" y="2590920"/>
            <a:ext cx="723888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are the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lanthanide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 - 4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3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5"/>
          <p:cNvSpPr/>
          <p:nvPr/>
        </p:nvSpPr>
        <p:spPr>
          <a:xfrm>
            <a:off x="457200" y="29718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Groups 3-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 - 5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7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5"/>
          <p:cNvSpPr/>
          <p:nvPr/>
        </p:nvSpPr>
        <p:spPr>
          <a:xfrm>
            <a:off x="1143000" y="2514600"/>
            <a:ext cx="74674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alkaline-ear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als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 - 6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1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5"/>
          <p:cNvSpPr/>
          <p:nvPr/>
        </p:nvSpPr>
        <p:spPr>
          <a:xfrm>
            <a:off x="1219320" y="23623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Groups 1, 2, 13-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75780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5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5">
            <a:hlinkClick r:id="" action="ppaction://hlinkshowjump?jump=previousslide"/>
          </p:cNvPr>
          <p:cNvSpPr/>
          <p:nvPr/>
        </p:nvSpPr>
        <p:spPr>
          <a:xfrm>
            <a:off x="1219320" y="5486400"/>
            <a:ext cx="38098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1295280" y="251460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ifference between atomic # and atomic mas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2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0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5">
            <a:hlinkClick r:id="" action="ppaction://hlinkshowjump?jump=previousslide"/>
          </p:cNvPr>
          <p:cNvSpPr/>
          <p:nvPr/>
        </p:nvSpPr>
        <p:spPr>
          <a:xfrm>
            <a:off x="1066680" y="4952880"/>
            <a:ext cx="49532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6"/>
          <p:cNvSpPr/>
          <p:nvPr/>
        </p:nvSpPr>
        <p:spPr>
          <a:xfrm>
            <a:off x="1371600" y="236232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ifference between intensive and extensive proper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3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5">
            <a:hlinkClick r:id="" action="ppaction://hlinkshowjump?jump=previousslide"/>
          </p:cNvPr>
          <p:cNvSpPr/>
          <p:nvPr/>
        </p:nvSpPr>
        <p:spPr>
          <a:xfrm>
            <a:off x="609480" y="3809880"/>
            <a:ext cx="5029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1219320" y="2514600"/>
            <a:ext cx="64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ure substance that is a chemical combination of two or more elements in a specific ratio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3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5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5">
            <a:hlinkClick r:id="" action="ppaction://hlinkshowjump?jump=previousslide"/>
          </p:cNvPr>
          <p:cNvSpPr/>
          <p:nvPr/>
        </p:nvSpPr>
        <p:spPr>
          <a:xfrm>
            <a:off x="914400" y="5029200"/>
            <a:ext cx="4876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Text Box 6"/>
          <p:cNvSpPr/>
          <p:nvPr/>
        </p:nvSpPr>
        <p:spPr>
          <a:xfrm>
            <a:off x="1295280" y="243828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The difference between mass and volume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4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0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Rectangle 5">
            <a:hlinkClick r:id="" action="ppaction://hlinkshowjump?jump=previousslide"/>
          </p:cNvPr>
          <p:cNvSpPr/>
          <p:nvPr/>
        </p:nvSpPr>
        <p:spPr>
          <a:xfrm>
            <a:off x="1295280" y="4267080"/>
            <a:ext cx="4876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6"/>
          <p:cNvSpPr/>
          <p:nvPr/>
        </p:nvSpPr>
        <p:spPr>
          <a:xfrm>
            <a:off x="609480" y="236232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ifference between a physical change and a chemical chang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5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5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angle 5">
            <a:hlinkClick r:id="" action="ppaction://hlinkshowjump?jump=previousslide"/>
          </p:cNvPr>
          <p:cNvSpPr/>
          <p:nvPr/>
        </p:nvSpPr>
        <p:spPr>
          <a:xfrm>
            <a:off x="1295280" y="3886200"/>
            <a:ext cx="5105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523880" y="2438280"/>
            <a:ext cx="58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ifference between an element and a compoun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6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0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Rectangle 5">
            <a:hlinkClick r:id="" action="ppaction://hlinkshowjump?jump=previousslide"/>
          </p:cNvPr>
          <p:cNvSpPr/>
          <p:nvPr/>
        </p:nvSpPr>
        <p:spPr>
          <a:xfrm>
            <a:off x="1219320" y="4876920"/>
            <a:ext cx="48765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Text Box 6"/>
          <p:cNvSpPr/>
          <p:nvPr/>
        </p:nvSpPr>
        <p:spPr>
          <a:xfrm>
            <a:off x="1295280" y="24382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ifference between aqueous and liquid phase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1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5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Text Box 5"/>
          <p:cNvSpPr/>
          <p:nvPr/>
        </p:nvSpPr>
        <p:spPr>
          <a:xfrm>
            <a:off x="838080" y="2666880"/>
            <a:ext cx="754380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# of protons (atomic #)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Vs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Mass of an atom (atomic mass)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2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9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Text Box 5"/>
          <p:cNvSpPr/>
          <p:nvPr/>
        </p:nvSpPr>
        <p:spPr>
          <a:xfrm>
            <a:off x="914400" y="2514600"/>
            <a:ext cx="71629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independent of type/amount of matter (intens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pends on type/amount of matter (extens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2">
            <a:hlinkClick r:id="rId1" action="ppaction://hlinksldjump"/>
          </p:cNvPr>
          <p:cNvSpPr/>
          <p:nvPr/>
        </p:nvSpPr>
        <p:spPr>
          <a:xfrm>
            <a:off x="-304920" y="-38088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3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3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 Box 5"/>
          <p:cNvSpPr/>
          <p:nvPr/>
        </p:nvSpPr>
        <p:spPr>
          <a:xfrm>
            <a:off x="1828800" y="2819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 Box 6"/>
          <p:cNvSpPr/>
          <p:nvPr/>
        </p:nvSpPr>
        <p:spPr>
          <a:xfrm>
            <a:off x="990720" y="2362320"/>
            <a:ext cx="6858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mount of matter (mas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ount of space an ob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kes up (volum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4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8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5"/>
          <p:cNvSpPr/>
          <p:nvPr/>
        </p:nvSpPr>
        <p:spPr>
          <a:xfrm>
            <a:off x="685800" y="2286000"/>
            <a:ext cx="7696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change that converts substances into something new (chemical) and a change that does not involve a change in the identity of the substance (physical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5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2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1143000" y="2362320"/>
            <a:ext cx="7162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wo or more elements combined (compoun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ngle type of atom (element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6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6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Text Box 5"/>
          <p:cNvSpPr/>
          <p:nvPr/>
        </p:nvSpPr>
        <p:spPr>
          <a:xfrm>
            <a:off x="990720" y="2209680"/>
            <a:ext cx="71625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dissolved in water to make a solution (aqueou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quid form of matter (liqui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4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5">
            <a:hlinkClick r:id="" action="ppaction://hlinkshowjump?jump=previousslide"/>
          </p:cNvPr>
          <p:cNvSpPr/>
          <p:nvPr/>
        </p:nvSpPr>
        <p:spPr>
          <a:xfrm>
            <a:off x="839880" y="3728880"/>
            <a:ext cx="4954320" cy="6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6"/>
          <p:cNvSpPr/>
          <p:nvPr/>
        </p:nvSpPr>
        <p:spPr>
          <a:xfrm>
            <a:off x="838080" y="236232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ecutive whole numbers associated with the elements on the periodic table; equal to the # of protons in the nucleus of an element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- 1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 Box 5"/>
          <p:cNvSpPr/>
          <p:nvPr/>
        </p:nvSpPr>
        <p:spPr>
          <a:xfrm>
            <a:off x="1219320" y="22096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hould be worn for every laboratory experi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2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5"/>
          <p:cNvSpPr/>
          <p:nvPr/>
        </p:nvSpPr>
        <p:spPr>
          <a:xfrm>
            <a:off x="914400" y="24382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ed to measure ma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3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5"/>
          <p:cNvSpPr/>
          <p:nvPr/>
        </p:nvSpPr>
        <p:spPr>
          <a:xfrm>
            <a:off x="1219320" y="228600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ed to most precisely measure volume of a 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4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5"/>
          <p:cNvSpPr/>
          <p:nvPr/>
        </p:nvSpPr>
        <p:spPr>
          <a:xfrm>
            <a:off x="914400" y="2438280"/>
            <a:ext cx="716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Parking space # in which to meet for fire drill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5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5"/>
          <p:cNvSpPr/>
          <p:nvPr/>
        </p:nvSpPr>
        <p:spPr>
          <a:xfrm>
            <a:off x="762120" y="2057400"/>
            <a:ext cx="723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3 pieces of lab equipment used in a filtratio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6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6"/>
          <p:cNvSpPr/>
          <p:nvPr/>
        </p:nvSpPr>
        <p:spPr>
          <a:xfrm>
            <a:off x="1905120" y="2362320"/>
            <a:ext cx="5333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b equipment used for stirring a solution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scraping a sol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1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5"/>
          <p:cNvSpPr/>
          <p:nvPr/>
        </p:nvSpPr>
        <p:spPr>
          <a:xfrm>
            <a:off x="1295280" y="2362320"/>
            <a:ext cx="655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are goggles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2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1447920" y="2819520"/>
            <a:ext cx="556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a balance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3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5"/>
          <p:cNvSpPr/>
          <p:nvPr/>
        </p:nvSpPr>
        <p:spPr>
          <a:xfrm>
            <a:off x="914400" y="2743200"/>
            <a:ext cx="6934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a graduated cylinder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4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5"/>
          <p:cNvSpPr/>
          <p:nvPr/>
        </p:nvSpPr>
        <p:spPr>
          <a:xfrm>
            <a:off x="1143000" y="2590920"/>
            <a:ext cx="5638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Space 105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5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5">
            <a:hlinkClick r:id="" action="ppaction://hlinkshowjump?jump=previousslide"/>
          </p:cNvPr>
          <p:cNvSpPr/>
          <p:nvPr/>
        </p:nvSpPr>
        <p:spPr>
          <a:xfrm>
            <a:off x="838080" y="403848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1371600" y="2819520"/>
            <a:ext cx="6172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perty describing how easily an element will combine with other substances to form new compou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5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5"/>
          <p:cNvSpPr/>
          <p:nvPr/>
        </p:nvSpPr>
        <p:spPr>
          <a:xfrm>
            <a:off x="1066680" y="2590920"/>
            <a:ext cx="6705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are ring stand, metal ring, funnel, filter paper, or beaker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6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Text Box 5"/>
          <p:cNvSpPr/>
          <p:nvPr/>
        </p:nvSpPr>
        <p:spPr>
          <a:xfrm>
            <a:off x="1371600" y="2286000"/>
            <a:ext cx="5638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a rubber policeman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1" action="ppaction://hlinksldjump"/>
              </a:rPr>
              <a:t>Wildcard - 1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Rectangle 4">
            <a:hlinkClick r:id="rId2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Text Box 6"/>
          <p:cNvSpPr/>
          <p:nvPr/>
        </p:nvSpPr>
        <p:spPr>
          <a:xfrm>
            <a:off x="2438280" y="2819520"/>
            <a:ext cx="480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8"/>
          <p:cNvSpPr/>
          <p:nvPr/>
        </p:nvSpPr>
        <p:spPr>
          <a:xfrm>
            <a:off x="1279440" y="2550960"/>
            <a:ext cx="588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name of Group 17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Wildcard - 2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Text Box 6"/>
          <p:cNvSpPr/>
          <p:nvPr/>
        </p:nvSpPr>
        <p:spPr>
          <a:xfrm>
            <a:off x="1676520" y="2819520"/>
            <a:ext cx="693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ncient branch of science in which “gold” was produc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ldcard</a:t>
            </a: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 - 3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 Box 6"/>
          <p:cNvSpPr/>
          <p:nvPr/>
        </p:nvSpPr>
        <p:spPr>
          <a:xfrm>
            <a:off x="1676520" y="2438280"/>
            <a:ext cx="617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Elements with some properties of metals and some properties of nonmetal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Wildcard - 4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 Box 5"/>
          <p:cNvSpPr/>
          <p:nvPr/>
        </p:nvSpPr>
        <p:spPr>
          <a:xfrm>
            <a:off x="1676520" y="274320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ocation of the transition metals on the periodic 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ldcard - 5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6"/>
          <p:cNvSpPr/>
          <p:nvPr/>
        </p:nvSpPr>
        <p:spPr>
          <a:xfrm>
            <a:off x="990720" y="2286000"/>
            <a:ext cx="73152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elements represented by the symbols: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u, Au, and K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ldcard - 6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Rectangle 4"/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Text Box 6"/>
          <p:cNvSpPr/>
          <p:nvPr/>
        </p:nvSpPr>
        <p:spPr>
          <a:xfrm>
            <a:off x="1828800" y="2590920"/>
            <a:ext cx="6019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of the two series placed below the periodic tab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ldcard - 1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 Box 5"/>
          <p:cNvSpPr/>
          <p:nvPr/>
        </p:nvSpPr>
        <p:spPr>
          <a:xfrm>
            <a:off x="1676520" y="2590920"/>
            <a:ext cx="5790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are the halogens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ldcard - 2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2743200" y="3048120"/>
            <a:ext cx="36576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What is alchemy?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6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5">
            <a:hlinkClick r:id="" action="ppaction://hlinkshowjump?jump=previousslide"/>
          </p:cNvPr>
          <p:cNvSpPr/>
          <p:nvPr/>
        </p:nvSpPr>
        <p:spPr>
          <a:xfrm>
            <a:off x="685800" y="3505320"/>
            <a:ext cx="48769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838080" y="2057400"/>
            <a:ext cx="723924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oes not depend on the size, shape, or amount of matter present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pends on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yp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matter or mater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ldcard - 3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Text Box 5"/>
          <p:cNvSpPr/>
          <p:nvPr/>
        </p:nvSpPr>
        <p:spPr>
          <a:xfrm>
            <a:off x="2133720" y="2514600"/>
            <a:ext cx="5105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are metalloid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ldcard - 4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5"/>
          <p:cNvSpPr/>
          <p:nvPr/>
        </p:nvSpPr>
        <p:spPr>
          <a:xfrm>
            <a:off x="1295280" y="2133720"/>
            <a:ext cx="7010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are Groups 3-12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ldcard - 5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5"/>
          <p:cNvSpPr/>
          <p:nvPr/>
        </p:nvSpPr>
        <p:spPr>
          <a:xfrm>
            <a:off x="1371600" y="2514600"/>
            <a:ext cx="66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are copper, gold, and potassium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ldcard - 6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5"/>
          <p:cNvSpPr/>
          <p:nvPr/>
        </p:nvSpPr>
        <p:spPr>
          <a:xfrm>
            <a:off x="1676520" y="297180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re are lanthanide and actinide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se questions have come from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 Bank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ates, Moore, and Starnes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actice of Statistics, 2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Michael A. Flinger and William I. No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AutoShape 4">
            <a:hlinkClick r:id="rId1"/>
          </p:cNvPr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1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143000" y="2438280"/>
            <a:ext cx="7238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the periodic table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2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1143000" y="2514600"/>
            <a:ext cx="70102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the law of conservation of matter (mass)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23:49:27Z</dcterms:created>
  <dc:creator>Great Valley High School</dc:creator>
  <dc:description/>
  <dc:language>en-US</dc:language>
  <cp:lastModifiedBy>Great Valley High School</cp:lastModifiedBy>
  <dcterms:modified xsi:type="dcterms:W3CDTF">2011-01-13T13:26:47Z</dcterms:modified>
  <cp:revision>23</cp:revision>
  <dc:subject/>
  <dc:title>Thermochemistry Jeopardy</dc:title>
</cp:coreProperties>
</file>